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706-D663-4A5E-84DE-01FFA9B0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4CA-EC2B-47E0-ADA3-F11F2D03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86A-5B33-4D17-8819-A3F2A895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EF49-B6B7-47D9-99CF-86702BCA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C1C-EF9F-4219-BFA3-4A2EBB38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7BC-0288-4AE7-812D-B2776754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AA0-3EB6-4C09-BAA2-BEF76C07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266-4754-430F-B67D-346B219C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AB4-550A-4ADE-A854-19881AE3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BC48-7C80-44CB-8C7D-4376C0DD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BEED-C384-45E3-9173-97A39234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DF5-FDDC-4D01-8363-5AC65BD0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CE6C-0628-4C8D-B4BE-76AD980D6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2.bp.blogspot.com/_DYGbX5lLtGM/SK60U4vam6I/AAAAAAAAAQA/3k0RkAwgxn0/s1600-h/bamboo-forest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3.bp.blogspot.com/_DYGbX5lLtGM/SK60Hsfw5FI/AAAAAAAAAP4/r-gTrYXimyk/s1600-h/bamboo-forest-3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3048120" cy="5638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9920" y="1143000"/>
            <a:ext cx="312408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362320" y="762120"/>
            <a:ext cx="4114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Nature Project</a:t>
            </a:r>
            <a:endParaRPr b="0" lang="en-US" sz="96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6240" y="297072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34280" y="3504960"/>
            <a:ext cx="149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Bran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16960" y="419004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86560" y="4800240"/>
            <a:ext cx="103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ra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http://www.ryokan-yachiyo.com/take.j_jpg.jpg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par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http://www.devinebengals.co.uk/_leopard_cat_01.jpg"/>
          <p:cNvPicPr/>
          <p:nvPr/>
        </p:nvPicPr>
        <p:blipFill>
          <a:blip r:embed="rId1"/>
          <a:stretch/>
        </p:blipFill>
        <p:spPr>
          <a:xfrm>
            <a:off x="2438280" y="1600200"/>
            <a:ext cx="4205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http://www.glitteringgold.com/Asian%20Leopard%20Cat%20Pic.jpg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http://www.pinktentacle.com/images/tsushima_leopard_cat.jpg"/>
          <p:cNvPicPr/>
          <p:nvPr/>
        </p:nvPicPr>
        <p:blipFill>
          <a:blip r:embed="rId1"/>
          <a:stretch/>
        </p:blipFill>
        <p:spPr>
          <a:xfrm>
            <a:off x="685800" y="1219320"/>
            <a:ext cx="784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http://scienceblogs.com/zooillogix/raccoon%20dog%201a.JPG"/>
          <p:cNvPicPr/>
          <p:nvPr/>
        </p:nvPicPr>
        <p:blipFill>
          <a:blip r:embed="rId1"/>
          <a:stretch/>
        </p:blipFill>
        <p:spPr>
          <a:xfrm>
            <a:off x="2057400" y="1752480"/>
            <a:ext cx="4952880" cy="4241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ccoon 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http://kathyannepippig.com/RaccoonDogPups.jpg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http://www.fashion-heart.com/term/material/images/RaccoonDog.jpg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ow Monk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http://travel.3yen.com/wp-content/images/jigokudani_hotspring_in_nagano_japan_001.jpg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http://www.mnh.si.edu/exhibits/natures_best_2006/gallery/snowmonkeyandbaby.jpg"/>
          <p:cNvPicPr/>
          <p:nvPr/>
        </p:nvPicPr>
        <p:blipFill>
          <a:blip r:embed="rId1"/>
          <a:stretch/>
        </p:blipFill>
        <p:spPr>
          <a:xfrm>
            <a:off x="2514600" y="533520"/>
            <a:ext cx="397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http://majorlycool.com/media/1/snow-monkeys/snow-monkeys-in-hot-spring.jpg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さく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herry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http://upload.wikimedia.org/wikipedia/commons/9/93/SakuraHealed.pn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895120" y="1676160"/>
            <a:ext cx="3505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0000"/>
                </a:solidFill>
                <a:latin typeface="Arial"/>
              </a:rPr>
              <a:t>THE</a:t>
            </a: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cc0000"/>
                </a:solidFill>
                <a:latin typeface="Arial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57142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さような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304776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http://www.discovernikkei.org/dj/nikkeialbum/files/filemanager/public/active/18/sakura_tree_full_full.jpg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http://img.photobucket.com/albums/v646/stark_source/FH000019.jpg"/>
          <p:cNvPicPr/>
          <p:nvPr/>
        </p:nvPicPr>
        <p:blipFill>
          <a:blip r:embed="rId1"/>
          <a:stretch/>
        </p:blipFill>
        <p:spPr>
          <a:xfrm>
            <a:off x="380880" y="68580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もみじ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Japanese Maple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http://paintmonster.at.infoseek.co.jp/blog_img/20061105/20061105-001.jpg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http://www.geocities.com/Tokyo/Shrine/2475/photos/backinjapan/fuku7.jpg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http://farm3.static.flickr.com/2128/2083312942_2fddc0bdf0.jpg?v=1203131867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たけ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Bamboo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523880"/>
            <a:ext cx="8305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762120"/>
            <a:ext cx="822960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22:50:49Z</dcterms:created>
  <dc:creator>Kids</dc:creator>
  <dc:description/>
  <dc:language>en-US</dc:language>
  <cp:lastModifiedBy>Kids</cp:lastModifiedBy>
  <dcterms:modified xsi:type="dcterms:W3CDTF">2008-11-12T00:17:12Z</dcterms:modified>
  <cp:revision>6</cp:revision>
  <dc:subject/>
  <dc:title>Nature Project</dc:title>
</cp:coreProperties>
</file>